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49033"/>
        <c:axId val="2028849"/>
      </c:barChart>
      <c:catAx>
        <c:axId val="13490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8849"/>
        <c:crosses val="autoZero"/>
        <c:auto val="1"/>
        <c:lblAlgn val="ctr"/>
        <c:lblOffset val="100"/>
        <c:noMultiLvlLbl val="0"/>
      </c:catAx>
      <c:valAx>
        <c:axId val="20288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90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FC49-DE23-44BA-8AD4-D51DC7691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F388-6351-4BEB-BCE8-AC3BAFEF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186E-C64E-491D-8B4E-DB7FF945E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9B4B-BA93-44BF-9343-03163D48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F028-C7E4-44BD-BE37-6BC2FA43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D951-AA38-4C94-9C8E-F655CCB1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4EAE-9B41-4BFF-868A-C6FFB0A2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AF65-7BFA-494A-83A8-585EDC42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E489-AF8A-45C6-8CDC-760283D3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B6DA-2515-4DDB-A9D3-322C6168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0E11-6938-4EC3-89E7-C4661DB5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307D-5CB4-4A54-9EB1-C81F2421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F944B-13C4-4911-B384-60CC4FE06B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